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3AC-E77E-49B0-A442-3F72BD3E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164-94AA-45F4-8512-413C9B9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DCE-4A63-4399-9272-21210FC1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44E-28C2-4EA4-9B4B-CE84DFF3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114-6F5B-40DB-8FD1-F3F3D44C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965-9E1D-49F0-9E07-78BECC2E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014-C5DF-4410-A465-130021A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EDD-9A47-469B-B1C8-FE920389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1D1-76F9-442D-BBBF-AE11E590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1C2-4B14-4750-A2B6-6B161BF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356-CA99-4839-9ACD-FF395FF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918-7CC7-4EDA-A150-05B64AAE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D895-19DE-4B14-A18C-1E463EFE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ubway"/>
              </a:rPr>
              <a:t>The Judicial Branc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your b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7, lawyers filed a class-action lawsuit against General Mills, the makers of Cheerios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laimed an additive was harm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ettled out of court and the lawyers got about $2 million in legal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s of the class each got a coupon for a free box of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ear the train a comin’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man in New York City attempted to commit suicide by laying on the tracks of the sub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s hit by a train and injured, but not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ued the city for her injuries and won damages of $9.9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fect cr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 Francisco cab driver Charles Hollom witnessed a woman being robbed at gunpoint whil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rove over to the robbery, chased and pinned the mugger to a wall with his 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iminal, Ocie McClure, sued the cab driver and won $24,595 for his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o you have to wait ag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5, a group of seven people broke into a closed public pool in Bronx, NY at 1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m, 32 year-old Ana Garcia, drow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tests showed she had a 0.23 blood alcohol level (more than twice the legal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family sued the city and won $2 million in da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on appeal the award was throw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out Any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delin Arias went to a cookout at her friend’s (Aledia Verasco) home in Miami,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y were out of lighter fluid, they decided to siphon some gas out of a car and use it to start the char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sco then lit a piece of paper and handed it to Arias to put on the charcoal in order to start the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 flame caught Arias on fire and she suffered burns that caused her to spend 2 weeks in the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at the hospital showed she had cocaine in her system that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delin Arias sued Verasco for causing her inju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think it turne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won to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delin Arias won $500,000 in damages in her law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it or not, she and Aleida Verasco are still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asco’s homeowners insurance is covering the damages, meaning that the cost will be passed on to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be 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ctually two different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Cou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l with cases involving federal laws and certain other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Cou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l with cases involving state and cit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serious cases don’t necessarily go to federal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urts hear most ca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deral Court only ha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jurisdic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certain types of ca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Jurisdic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authority to hear a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are not necessarily the most serious cases, like mur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can be criminal or civil ca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basic types of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iginal Juris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authority to hear a case for the firs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llate Juris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ower to reconsider a case after it has been decided by a lowe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more than one court holds the power to hold a trial first, this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urrent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Federal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levels of federal cou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strict Cou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as original jurisdiction in almost all federal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urt of Appea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an only hear cases after the District court has heard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upreme Cou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as the final say on all federal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rol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dicial Bran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pret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up of the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reme Cou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court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cides if the law has been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cides if the law is 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kes sure that people’s rights have been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Ju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ederal court has from 6-27 ju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judges are appointed by the President and approved by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s for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until they retire; they c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be forced out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eachment by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court has original jurisdiction in any case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s a Constitution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se concerns whether someone’s rights have been violated or denied, the case can go to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 v. Ariz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nesto Miranda was arrested in 1963 and identified by the crime victim in a line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was questioned by the police and confessed to the cr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was found guilty and sent to prison for twenty to thirty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lawyers appealed, saying that he was denied his Fifth Amendment rights because the police did not tell him that he did have to answer their questions when he confes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ase was appealed all the way to the Supreme Court.  How do you think it turned ou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”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rt ruled that police are required to inform suspects of their rights against self-in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 police now must read the “Miranda Warning” to anyone who is questioned or ar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know the Miranda W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 (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une 3, 1961, a burglary occurred at the Bay Harbor Pool Room in Panama City, FL. Someone broke a window, smashed the cigarette machine and jukebox, and stole money from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laimed they had seen Clarence Earl Gideon at the pool room at 5:30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ound Gideon with change in his pockets and he was arrested for the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deon, was a semi-literate drifter, and could not afford a law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the court to provide one for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udge refused, saying the state only had to do this in death penalt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 a poor job defending himself and was found guilty and sent to prison for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n prison he studied in the prison library and decided to appeal his case, saying his Sixth Amendment rights had been vio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 government have to provide a free lawyer for every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have the right to an attorne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rt ruled in favor of Gid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ght to an attorney is essential to having a fair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anyone accused of a crime who cannot afford their own lawyer may have one paid for by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496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is charg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a federal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tried in a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ederal crimes include tax evasion, bank robbery, kidnapping, mail tampering, counterfeiting and terr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der is usually a stat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time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case that involves the maritime law has federal jurisd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mes that occur at s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lawsuits that involve the ocean or incidents that occur at sea are federal to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 of sunken trea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basic types of laws and cases that courts deal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iminal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tes what people can and cannot do, protecting the safety of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vil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s disagreements betwee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s involving the U.S.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court has jurisdiction in all cases 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suing a person, organization or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, organization or company is suing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vs.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has a disagreemen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, their case is heard by a federal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true for cases involving people who live in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s involving foreig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ur government has a disagreement with another nation’s government, it can be heard in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f American government employees commit crimes in foreign countries, they can be put on trial in U.S.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in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se cases, courts decide whether someone has violated the 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wo types of cr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elo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st serious crimes, often punished with prison 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d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isdemean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 serious crimes, usually punished with f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ommunity service or prob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ivil case, the court settles an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a matter of unpai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involve being compensated for damage caused by someone 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involve individuals, organizations or even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rt usually orders one side to pay the othe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compensation for the fault of the wrong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jail time given out in civi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ve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1970s a housing development and elementary school near Niagara Falls, NY were built, called “Love Canal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known to the buyers of the homes, it was built on top of a toxic waste du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 a result many of the residents got sick and children had birth defects some contracted canc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the dump was discovered as the cause, the owners were not only angry, but their homes were now worthl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fter a long civil lawsuit, the Chemical company that did the dumping had to pay $129 million to the resid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in Brockovich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n Brockovich, a file clerk discovered that Pacific Gas &amp; Electric (PG&amp;E) had been dumping cancer-causing chemicals into the water supply in her hometown of Hinkley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emicals had been causing a lot of illness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able to organize a lawsuit, and the people won $333 million in da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vie was made about this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ll lawsuits are legitimate how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9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2, Stella Liebeck, 81, spilled hot McDonalds coffee onto her lap in the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ffee soaked into the sweatpants she was wearing and caused second and third degree b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sued McDonalds, saying the coffee wa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on damages of $2.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later reduced on appeal to $48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a dinosaur sue a chic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rts mascot, “The San Diego Chicken” had, as part of his act, a fight against Barney the Purple Dinosa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ors of Barney were offended and sued in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udge threw out the lawsuit, saying it was clearly parody and not trademark infri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9:08:50Z</dcterms:created>
  <dc:creator>Phillip McGinnis</dc:creator>
  <dc:description/>
  <dc:language>en-US</dc:language>
  <cp:lastModifiedBy>VBCPS</cp:lastModifiedBy>
  <dcterms:modified xsi:type="dcterms:W3CDTF">2006-03-06T15:20:04Z</dcterms:modified>
  <cp:revision>41</cp:revision>
  <dc:subject/>
  <dc:title>Slide 1</dc:title>
</cp:coreProperties>
</file>